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12193588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9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87480" y="744120"/>
            <a:ext cx="661320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20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21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0181-7867-4EB4-88AD-F9F24540767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CF70-8264-43EC-BF18-A6A2F243166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6C56-0C83-405F-BCC4-5252149B50B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169A-1E5F-457F-A969-BC5A078B4BB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6704-28FB-420F-B99A-EC8719E47E6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E862-703B-4447-9819-00D48098ECC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0FD5-1C95-4156-A871-C2F77FBD52E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E358-9D6A-4288-8461-2AB0A99341F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9B59-8523-4BFF-B161-EDFD643A59F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B8C5-4C10-4FCB-8A8E-73074CA97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BFF4-8217-4B01-BE81-B8345AEE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C981-E2AF-47A0-9B12-CCAFD9D92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6E97-1E06-4A0D-8AF1-6FCFF6465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0555-C5FF-49C2-894B-AA46A9311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08B2-451C-451C-9CE2-14F91E9D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BAF1-43C2-4B8E-AB23-4348F13B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129D-4775-4C47-9322-E7809650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6D8F-CD1B-4B3D-B959-1CDC4C86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82ED-BF5D-4304-B768-2863C0E4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7A22-EC65-4A58-839B-302A9C52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3C18-D830-4FEF-AF1C-E92F6D63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9BED-55D0-44AF-921E-B89CA529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9828-B8AA-4720-B18C-A934ED41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F62E-A2EF-45D4-A330-1545BC5A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9F43-5208-421C-89E5-CEEF59C8D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8690-B637-44A2-82B3-CA4A61027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F94D9-5243-4C70-9596-267E6B0C4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C29CB-2310-4CAE-8695-26C217F8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B3DA8-FC3B-4BE0-B788-790E6A0F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B8E21-A74D-4C1B-85BF-0482B3E7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A8FCF-C997-4CA0-AE4B-94A8EB05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56F7-1116-4EC9-8764-9B68C547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4CD15-BA78-472F-87BF-9C80E9A1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17F9C-0663-4956-8792-BABB0E42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41487-435F-4D9D-996E-4B601F76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F52CD-D0E3-4657-B283-8021B6D5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6535C-D686-4F44-8651-9CA674A4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6BCED-8519-41AB-A719-AD2E6CC64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73574-AF26-4859-91B5-09FCBCA3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CC8AA-9EF8-4A78-A663-CCE30D526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232EF-DC28-4C97-A89C-6E094736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854C2-634D-428F-B0A7-B5BA73CE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16DB-C81C-400A-9875-4440E64A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7CC7B-4410-4192-BCE2-A0EE9D4B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272EB-AA57-4684-9353-68311153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9B014-4700-4D7F-AF0D-1A1AB3CD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C046C-1870-4AD7-9793-F13D0398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9E657-CC62-493B-9147-F2AC4723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21AEA-2D52-488D-B27B-50CA8ADF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F2B83-C564-4F34-8366-52B6D881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6C816-0DCC-4394-8C2E-524873E26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EDB5E-28B0-40D4-BF2C-4815745C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2BE8B-F775-4B9C-852F-D9E56FBCB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1D74-AB4A-40AE-91AB-95D9A6FC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4EDB5-0334-452D-B9BF-99008D0E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218E1-4ACD-46FB-9C35-EBFACF94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95939-8356-4C9E-BED8-7B96A8F0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907DA-F508-47E1-9BF6-28D3CBC9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1ACF9-68DB-4BC4-9664-01C2AB9E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D81FA-7EA0-458D-9EF4-A5A04408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DA7BD-C832-4D21-B18A-09A02184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D5125-0C71-4408-9A6E-6766DF12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7F053-D221-4AAB-B64F-FDC7D1DC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2DD4D-06EA-4476-B05C-77F072356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5ED6-CCC4-4508-9A0D-54543696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CF91C-15D3-431E-90FE-BCAD14C4C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37821-21E3-428C-93A7-D5B24629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541F3-0596-473B-A514-CB303A28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9A4CB-30EC-4C14-9B73-BF0ED21A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2721A-E000-436F-B99C-AC8B4E89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09452-A1C4-4884-B790-C14F8E4E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CE533-9043-448D-B61A-C87BD36B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BC526-6684-46A4-AEA5-3E58D8CB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29B1E-E868-435B-A928-A2E6D846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15E1A-1267-4929-99AD-30D566EC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E956-8FD7-4E2F-8F9B-40D4ADFF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AF2F8-6F65-438B-BF96-4C2DD452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1293A-760C-476A-A370-E78D0A384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09220-D46A-4404-8B8D-51498D67C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2E24-C595-4CAA-BC2C-C4EB9FE7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7807-9E93-4B70-B04B-231AE5B4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1B74-168F-43B0-9A3D-F1E7684BFFB0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AF01-8339-4072-9CBD-FC8FFF844E0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0821-CC5B-4BFC-BB19-72CF3ECAD69C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FEBC-8B9E-4C46-8285-ECCCACDDBCD2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5717-3FB2-4E30-872A-DE94402F7DD8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841C-DE20-4F6B-9AA5-E3847BCD96A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6DF6-BC71-408D-B174-C709500F8A0F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04E4-6FEF-48D6-A213-10EFF7EF311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Retângulo 7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A7C2-3266-445B-BF01-45BF3F7C1288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D3AD-D75F-48AC-98FF-1B9B2A05755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AF96-46D5-42AA-ACC4-1EA45CBC9E86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F7C8-3EA6-4AAE-83A5-BD851B52443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cgepmps@previd&#234;ncia.gov.b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040" y="1413000"/>
            <a:ext cx="1036332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Perfil da população brasileira ocupada, sem proteção previdenciária e com capacidade contributi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828440" y="5013000"/>
            <a:ext cx="853452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Brasília, dezembro de 20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6"/>
          <p:cNvSpPr/>
          <p:nvPr/>
        </p:nvSpPr>
        <p:spPr>
          <a:xfrm>
            <a:off x="550800" y="692280"/>
            <a:ext cx="11090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opulação desprotegida por sex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9"/>
          <p:cNvSpPr/>
          <p:nvPr/>
        </p:nvSpPr>
        <p:spPr>
          <a:xfrm>
            <a:off x="353880" y="5877000"/>
            <a:ext cx="1078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Fonte: Microdados da PNADC/IBGE 20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laboração: CGEPR/SPPS/M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Gráfico 4" descr=""/>
          <p:cNvPicPr/>
          <p:nvPr/>
        </p:nvPicPr>
        <p:blipFill>
          <a:blip r:embed="rId1"/>
          <a:stretch/>
        </p:blipFill>
        <p:spPr>
          <a:xfrm>
            <a:off x="1652760" y="1577880"/>
            <a:ext cx="888660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055520" y="907920"/>
            <a:ext cx="100807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Homens desprotegidos com capacidade contributiva por posição na ocup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tângulo 4"/>
          <p:cNvSpPr/>
          <p:nvPr/>
        </p:nvSpPr>
        <p:spPr>
          <a:xfrm>
            <a:off x="2610000" y="6093000"/>
            <a:ext cx="8526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Gráfico 5" descr=""/>
          <p:cNvPicPr/>
          <p:nvPr/>
        </p:nvPicPr>
        <p:blipFill>
          <a:blip r:embed="rId1"/>
          <a:stretch/>
        </p:blipFill>
        <p:spPr>
          <a:xfrm>
            <a:off x="1274760" y="1914480"/>
            <a:ext cx="9356760" cy="418140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19"/>
          <p:cNvSpPr/>
          <p:nvPr/>
        </p:nvSpPr>
        <p:spPr>
          <a:xfrm>
            <a:off x="353880" y="6093000"/>
            <a:ext cx="1078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Fonte: Microdados da PNADC/IBGE 20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laboração: CGEPR/SPPS/M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1055520" y="907920"/>
            <a:ext cx="100807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Mulheres desprotegidas com capacidade contributiva por posição na ocup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9"/>
          <p:cNvSpPr/>
          <p:nvPr/>
        </p:nvSpPr>
        <p:spPr>
          <a:xfrm>
            <a:off x="353880" y="6093000"/>
            <a:ext cx="1078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Fonte: Microdados da PNADC/IBGE 20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laboração: CGEPR/SPPS/M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Gráfico 6" descr=""/>
          <p:cNvPicPr/>
          <p:nvPr/>
        </p:nvPicPr>
        <p:blipFill>
          <a:blip r:embed="rId1"/>
          <a:stretch/>
        </p:blipFill>
        <p:spPr>
          <a:xfrm>
            <a:off x="1920960" y="1627200"/>
            <a:ext cx="8497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5"/>
          <p:cNvSpPr/>
          <p:nvPr/>
        </p:nvSpPr>
        <p:spPr>
          <a:xfrm>
            <a:off x="334800" y="620640"/>
            <a:ext cx="115221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Grupamento de atividade trabalho principal da população desprotegidas com capacidade contribu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055520" y="1824120"/>
          <a:ext cx="9596520" cy="4425840"/>
        </p:xfrm>
        <a:graphic>
          <a:graphicData uri="http://schemas.openxmlformats.org/drawingml/2006/table">
            <a:tbl>
              <a:tblPr/>
              <a:tblGrid>
                <a:gridCol w="2948040"/>
                <a:gridCol w="1330560"/>
                <a:gridCol w="1328760"/>
                <a:gridCol w="1330200"/>
                <a:gridCol w="1328760"/>
                <a:gridCol w="1330200"/>
              </a:tblGrid>
              <a:tr h="795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rupamento de atividade trabalho princip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Hom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% dos Home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Mulh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% das Mulhe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mércio, reparação de veículos automotores e motocicle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.681.2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1,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91.7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1,9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.473.0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195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nstruç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.347.7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9,7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7.9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,8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.375.6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Informação, comunicação e atividades financeiras, imobiliárias, profissionais e administrativ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42.7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,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05.9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1,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.048.6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195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Indústria ge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18.8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9,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18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,8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.036.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utros Serviç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67.9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,9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12.6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4,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980.5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195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Serviços domést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7.2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03.4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2,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80.6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ransporte, armazenagem e correio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88.0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0.9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,4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39.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193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ojamento e alimentação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23.6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,4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06.4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1,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30.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gricultura, pecuária, produção florestal, pesca e aquicultur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57.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,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8.8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,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06.8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325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Educação, saúde humana e serviços socia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02.0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,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52.4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54.4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dministração pública, defesa e seguridade social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.5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,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.7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,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.3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193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tividades mal definid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.5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.8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.913.5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0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.621.6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0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1.535.1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</a:tbl>
          </a:graphicData>
        </a:graphic>
      </p:graphicFrame>
      <p:sp>
        <p:nvSpPr>
          <p:cNvPr id="314" name="Rectangle 19"/>
          <p:cNvSpPr/>
          <p:nvPr/>
        </p:nvSpPr>
        <p:spPr>
          <a:xfrm>
            <a:off x="353880" y="6243480"/>
            <a:ext cx="10784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Fonte: Microdados da PNADC/IBGE 20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laboração: CGEPR/SPPS/M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5"/>
          <p:cNvSpPr/>
          <p:nvPr/>
        </p:nvSpPr>
        <p:spPr>
          <a:xfrm>
            <a:off x="334800" y="620640"/>
            <a:ext cx="115221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Quantitativo de desprotegidos com capacidade contributiva por sexo e 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9"/>
          <p:cNvSpPr/>
          <p:nvPr/>
        </p:nvSpPr>
        <p:spPr>
          <a:xfrm>
            <a:off x="353880" y="6243480"/>
            <a:ext cx="10784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Fonte: Microdados da PNADC/IBGE 20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laboração: CGEPR/SPPS/M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Gráfico 4" descr=""/>
          <p:cNvPicPr/>
          <p:nvPr/>
        </p:nvPicPr>
        <p:blipFill>
          <a:blip r:embed="rId1"/>
          <a:stretch/>
        </p:blipFill>
        <p:spPr>
          <a:xfrm>
            <a:off x="1700280" y="1914480"/>
            <a:ext cx="921708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5"/>
          <p:cNvSpPr/>
          <p:nvPr/>
        </p:nvSpPr>
        <p:spPr>
          <a:xfrm>
            <a:off x="334800" y="620640"/>
            <a:ext cx="115221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ercentual de desprotegidos com capacidade contributiva por regi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9"/>
          <p:cNvSpPr/>
          <p:nvPr/>
        </p:nvSpPr>
        <p:spPr>
          <a:xfrm>
            <a:off x="353880" y="6243480"/>
            <a:ext cx="10784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Fonte: Microdados da PNADC/IBGE 20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laboração: CGEPR/SPPS/M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Gráfico 4" descr=""/>
          <p:cNvPicPr/>
          <p:nvPr/>
        </p:nvPicPr>
        <p:blipFill>
          <a:blip r:embed="rId1"/>
          <a:stretch/>
        </p:blipFill>
        <p:spPr>
          <a:xfrm>
            <a:off x="500040" y="1362240"/>
            <a:ext cx="1025532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5"/>
          <p:cNvSpPr/>
          <p:nvPr/>
        </p:nvSpPr>
        <p:spPr>
          <a:xfrm>
            <a:off x="263520" y="981000"/>
            <a:ext cx="11520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Quantitativo de desprotegidos com capacidade contributiva por renda em Salários Mínimos (S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9"/>
          <p:cNvSpPr/>
          <p:nvPr/>
        </p:nvSpPr>
        <p:spPr>
          <a:xfrm>
            <a:off x="353880" y="6243480"/>
            <a:ext cx="10784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Fonte: Microdados da PNADC/IBGE 20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laboração: CGEPR/SPPS/M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Gráfico 4" descr=""/>
          <p:cNvPicPr/>
          <p:nvPr/>
        </p:nvPicPr>
        <p:blipFill>
          <a:blip r:embed="rId1"/>
          <a:stretch/>
        </p:blipFill>
        <p:spPr>
          <a:xfrm>
            <a:off x="474840" y="1500120"/>
            <a:ext cx="1054224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5"/>
          <p:cNvSpPr/>
          <p:nvPr/>
        </p:nvSpPr>
        <p:spPr>
          <a:xfrm>
            <a:off x="334800" y="692280"/>
            <a:ext cx="115221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ercentual de desprotegidos com capacidade contributiva por escolaridade e sex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9"/>
          <p:cNvSpPr/>
          <p:nvPr/>
        </p:nvSpPr>
        <p:spPr>
          <a:xfrm>
            <a:off x="353880" y="6243480"/>
            <a:ext cx="10784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Fonte: Microdados da PNADC/IBGE 20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laboração: CGEPR/SPPS/M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874800" y="2028960"/>
          <a:ext cx="10442520" cy="3935160"/>
        </p:xfrm>
        <a:graphic>
          <a:graphicData uri="http://schemas.openxmlformats.org/drawingml/2006/table">
            <a:tbl>
              <a:tblPr/>
              <a:tblGrid>
                <a:gridCol w="5211720"/>
                <a:gridCol w="1743120"/>
                <a:gridCol w="1743120"/>
                <a:gridCol w="1744560"/>
              </a:tblGrid>
              <a:tr h="245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urso mais elevado que frequento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h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7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-esco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24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e de alfabetização - 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betização de jovens e adul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24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igo primário (elementa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igo ginásio (médio 1º cicl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24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ular do ensino fundamental ou do 1º gr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9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0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cação de jovens e adultos (EJA) ou supletivo do 1º gr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24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igo científico, clássico, etc. (médio 2º cicl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ular do ensino médio ou do 2º gr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,8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8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245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cação de jovens e adultos (EJA) ou supletivo do 2º gr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erior - graduaç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7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9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5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246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pecialização de nível superi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2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8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str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245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utor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5"/>
          <p:cNvSpPr/>
          <p:nvPr/>
        </p:nvSpPr>
        <p:spPr>
          <a:xfrm>
            <a:off x="353880" y="907920"/>
            <a:ext cx="115221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ercentual de desprotegidos com capacidade contributiva por sexo e raça/c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9"/>
          <p:cNvSpPr/>
          <p:nvPr/>
        </p:nvSpPr>
        <p:spPr>
          <a:xfrm>
            <a:off x="353880" y="6243480"/>
            <a:ext cx="10784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Fonte: Microdados da PNADC/IBGE 20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laboração: CGEPR/SPPS/M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055520" y="2637000"/>
          <a:ext cx="9720360" cy="2808000"/>
        </p:xfrm>
        <a:graphic>
          <a:graphicData uri="http://schemas.openxmlformats.org/drawingml/2006/table">
            <a:tbl>
              <a:tblPr/>
              <a:tblGrid>
                <a:gridCol w="2430720"/>
                <a:gridCol w="2430360"/>
                <a:gridCol w="2428920"/>
                <a:gridCol w="2430360"/>
              </a:tblGrid>
              <a:tr h="693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xo/Raç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ta/Par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n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6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,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693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,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9"/>
          <p:cNvSpPr/>
          <p:nvPr/>
        </p:nvSpPr>
        <p:spPr>
          <a:xfrm>
            <a:off x="353880" y="6243480"/>
            <a:ext cx="10784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Fonte: Microdados da PNADC/IBGE 20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laboração: CGEPR/SPPS/M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353880" y="907920"/>
            <a:ext cx="115221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Obrig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Subsecretaria de Regime Geral de Previdência So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Coordenação-Geral de Estudos Previdenciá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9454c3"/>
                </a:solidFill>
                <a:uFillTx/>
                <a:latin typeface="Calibri"/>
                <a:hlinkClick r:id="rId1"/>
              </a:rPr>
              <a:t>cgepmps@previdencia.gov.b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2021-5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9880" y="2420640"/>
            <a:ext cx="10362960" cy="24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Proteção previdenciária da população ocupada com idade entre 16 e 59 anos, Brasil - 20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tângulo de cantos arredondados 53"/>
          <p:cNvSpPr/>
          <p:nvPr/>
        </p:nvSpPr>
        <p:spPr>
          <a:xfrm>
            <a:off x="627120" y="2781360"/>
            <a:ext cx="3940200" cy="3941640"/>
          </a:xfrm>
          <a:custGeom>
            <a:avLst/>
            <a:gdLst>
              <a:gd name="textAreaLeft" fmla="*/ 192240 w 3940200"/>
              <a:gd name="textAreaRight" fmla="*/ 3747960 w 3940200"/>
              <a:gd name="textAreaTop" fmla="*/ 192240 h 3941640"/>
              <a:gd name="textAreaBottom" fmla="*/ 3749400 h 394164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0e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806"/>
          <p:cNvSpPr/>
          <p:nvPr/>
        </p:nvSpPr>
        <p:spPr>
          <a:xfrm>
            <a:off x="17640" y="668160"/>
            <a:ext cx="1217448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norama da proteção previdenciária da população ocupada com idade entre 16 e 59 anos, Brasil -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807"/>
          <p:cNvSpPr/>
          <p:nvPr/>
        </p:nvSpPr>
        <p:spPr>
          <a:xfrm>
            <a:off x="8874000" y="5621400"/>
            <a:ext cx="298296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Fonte: Micro dados PNAD Contínua 2017 /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Nota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 Na PNAD Contínua essas pessoas se autodeclaram não contribuint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 baseline="30000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pt-BR" sz="1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 Inclui </a:t>
            </a: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906.395</a:t>
            </a: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 desprotegidos com rendimento ignorado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1809"/>
          <p:cNvSpPr/>
          <p:nvPr/>
        </p:nvSpPr>
        <p:spPr>
          <a:xfrm>
            <a:off x="1008000" y="3933720"/>
            <a:ext cx="3206880" cy="9162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85db1"/>
              </a:gs>
              <a:gs pos="100000">
                <a:srgbClr val="0a7bed"/>
              </a:gs>
            </a:gsLst>
            <a:lin ang="16200000"/>
          </a:gradFill>
          <a:ln w="9360">
            <a:solidFill>
              <a:srgbClr val="247cd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CONTRIBUINTES dos Regim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Próprios Militar e  Estatutá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7,4 milhõ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810"/>
          <p:cNvSpPr/>
          <p:nvPr/>
        </p:nvSpPr>
        <p:spPr>
          <a:xfrm>
            <a:off x="1003320" y="2997360"/>
            <a:ext cx="3206880" cy="9158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85db1"/>
              </a:gs>
              <a:gs pos="100000">
                <a:srgbClr val="0a7bed"/>
              </a:gs>
            </a:gsLst>
            <a:lin ang="16200000"/>
          </a:gradFill>
          <a:ln w="9360">
            <a:solidFill>
              <a:srgbClr val="247cd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CONTRIBUINTES do Regime G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de Previdência Social – RG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48,2 milh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811"/>
          <p:cNvSpPr/>
          <p:nvPr/>
        </p:nvSpPr>
        <p:spPr>
          <a:xfrm>
            <a:off x="1003320" y="4869000"/>
            <a:ext cx="3206880" cy="917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85db1"/>
              </a:gs>
              <a:gs pos="100000">
                <a:srgbClr val="0a7bed"/>
              </a:gs>
            </a:gsLst>
            <a:lin ang="16200000"/>
          </a:gradFill>
          <a:ln w="9360">
            <a:solidFill>
              <a:srgbClr val="247cd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GURADOS ESPECIAIS</a:t>
            </a:r>
            <a:r>
              <a:rPr b="0" lang="pt-BR" sz="1400" spc="-1" strike="noStrike" baseline="30000">
                <a:solidFill>
                  <a:srgbClr val="ffffff"/>
                </a:solidFill>
                <a:latin typeface="Calibri"/>
              </a:rPr>
              <a:t>1</a:t>
            </a: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 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Regime G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2,5 milh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812"/>
          <p:cNvSpPr/>
          <p:nvPr/>
        </p:nvSpPr>
        <p:spPr>
          <a:xfrm>
            <a:off x="1009800" y="6000840"/>
            <a:ext cx="3301920" cy="637920"/>
          </a:xfrm>
          <a:prstGeom prst="cube">
            <a:avLst>
              <a:gd name="adj" fmla="val 25000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NÃO CONTRIBUINT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25 milh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810"/>
          <p:cNvSpPr/>
          <p:nvPr/>
        </p:nvSpPr>
        <p:spPr>
          <a:xfrm>
            <a:off x="5557680" y="3019320"/>
            <a:ext cx="2664000" cy="846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85db1"/>
              </a:gs>
              <a:gs pos="100000">
                <a:srgbClr val="0a7bed"/>
              </a:gs>
            </a:gsLst>
            <a:lin ang="16200000"/>
          </a:gradFill>
          <a:ln w="9360">
            <a:solidFill>
              <a:srgbClr val="247cd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BENEFICIÁ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800 m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810"/>
          <p:cNvSpPr/>
          <p:nvPr/>
        </p:nvSpPr>
        <p:spPr>
          <a:xfrm>
            <a:off x="5442120" y="4148280"/>
            <a:ext cx="2828880" cy="1100160"/>
          </a:xfrm>
          <a:prstGeom prst="cube">
            <a:avLst>
              <a:gd name="adj" fmla="val 25000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alibri"/>
              </a:rPr>
              <a:t>SOCIALM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alibri"/>
              </a:rPr>
              <a:t>DESPROTEGIDOS</a:t>
            </a:r>
            <a:r>
              <a:rPr b="1" lang="pt-BR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pt-BR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alibri"/>
              </a:rPr>
              <a:t>24,2 milhões (29,1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810"/>
          <p:cNvSpPr/>
          <p:nvPr/>
        </p:nvSpPr>
        <p:spPr>
          <a:xfrm>
            <a:off x="4727520" y="5653080"/>
            <a:ext cx="1944720" cy="1160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&lt; 1 SALÁRIO MÍNIM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11,7 milh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810"/>
          <p:cNvSpPr/>
          <p:nvPr/>
        </p:nvSpPr>
        <p:spPr>
          <a:xfrm>
            <a:off x="6743880" y="5653080"/>
            <a:ext cx="2052360" cy="1160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IGUAL OU MAIOR 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1 SALÁRIO MÍNI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11,5 milh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" name="Conector de seta reta 31"/>
          <p:cNvCxnSpPr>
            <a:stCxn id="269" idx="5"/>
            <a:endCxn id="270" idx="2"/>
          </p:cNvCxnSpPr>
          <p:nvPr/>
        </p:nvCxnSpPr>
        <p:spPr>
          <a:xfrm flipV="1">
            <a:off x="4311360" y="3547800"/>
            <a:ext cx="1246680" cy="269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Conector de seta reta 44"/>
          <p:cNvCxnSpPr>
            <a:stCxn id="271" idx="3"/>
            <a:endCxn id="273" idx="0"/>
          </p:cNvCxnSpPr>
          <p:nvPr/>
        </p:nvCxnSpPr>
        <p:spPr>
          <a:xfrm>
            <a:off x="6719400" y="5248440"/>
            <a:ext cx="1196280" cy="40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Conector de seta reta 46"/>
          <p:cNvCxnSpPr>
            <a:stCxn id="271" idx="3"/>
            <a:endCxn id="272" idx="0"/>
          </p:cNvCxnSpPr>
          <p:nvPr/>
        </p:nvCxnSpPr>
        <p:spPr>
          <a:xfrm flipH="1">
            <a:off x="5844600" y="5248440"/>
            <a:ext cx="875160" cy="40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Conector de seta reta 182"/>
          <p:cNvCxnSpPr>
            <a:stCxn id="269" idx="5"/>
          </p:cNvCxnSpPr>
          <p:nvPr/>
        </p:nvCxnSpPr>
        <p:spPr>
          <a:xfrm flipV="1">
            <a:off x="4311720" y="4822560"/>
            <a:ext cx="113400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Conector reto 124"/>
          <p:cNvSpPr/>
          <p:nvPr/>
        </p:nvSpPr>
        <p:spPr>
          <a:xfrm flipH="1">
            <a:off x="892080" y="2901960"/>
            <a:ext cx="7920" cy="29019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Conector reto 132"/>
          <p:cNvSpPr/>
          <p:nvPr/>
        </p:nvSpPr>
        <p:spPr>
          <a:xfrm>
            <a:off x="892080" y="2916360"/>
            <a:ext cx="9417240" cy="79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Conector reto 135"/>
          <p:cNvSpPr/>
          <p:nvPr/>
        </p:nvSpPr>
        <p:spPr>
          <a:xfrm flipV="1">
            <a:off x="892080" y="5803920"/>
            <a:ext cx="3497400" cy="223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Conector reto 137"/>
          <p:cNvSpPr/>
          <p:nvPr/>
        </p:nvSpPr>
        <p:spPr>
          <a:xfrm>
            <a:off x="4510080" y="3738600"/>
            <a:ext cx="0" cy="46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Conector de seta reta 160"/>
          <p:cNvCxnSpPr>
            <a:endCxn id="283" idx="0"/>
          </p:cNvCxnSpPr>
          <p:nvPr/>
        </p:nvCxnSpPr>
        <p:spPr>
          <a:xfrm flipH="1">
            <a:off x="10314720" y="2911320"/>
            <a:ext cx="10440" cy="125496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4" name="Retângulo de cantos arredondados 2104387"/>
          <p:cNvSpPr/>
          <p:nvPr/>
        </p:nvSpPr>
        <p:spPr>
          <a:xfrm>
            <a:off x="122400" y="1844640"/>
            <a:ext cx="4965480" cy="55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1d1ff"/>
              </a:gs>
              <a:gs pos="100000">
                <a:srgbClr val="e4f2ff"/>
              </a:gs>
            </a:gsLst>
            <a:lin ang="16200000"/>
          </a:gradFill>
          <a:ln w="9360">
            <a:solidFill>
              <a:srgbClr val="5d9ac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Calibri"/>
              </a:rPr>
              <a:t>População ocupada de 16 a 59 anos: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 83,1 milh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Conector reto 2104437"/>
          <p:cNvSpPr/>
          <p:nvPr/>
        </p:nvSpPr>
        <p:spPr>
          <a:xfrm>
            <a:off x="4330800" y="2901960"/>
            <a:ext cx="28440" cy="28875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810"/>
          <p:cNvSpPr/>
          <p:nvPr/>
        </p:nvSpPr>
        <p:spPr>
          <a:xfrm>
            <a:off x="8858160" y="4165560"/>
            <a:ext cx="2638440" cy="11001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85db1"/>
              </a:gs>
              <a:gs pos="100000">
                <a:srgbClr val="0a7bed"/>
              </a:gs>
            </a:gsLst>
            <a:lin ang="16200000"/>
          </a:gradFill>
          <a:ln w="9360">
            <a:solidFill>
              <a:srgbClr val="247cd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alibri"/>
              </a:rPr>
              <a:t>SOCIALM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alibri"/>
              </a:rPr>
              <a:t>PROTEGID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alibri"/>
              </a:rPr>
              <a:t>58,9 milhões (70,9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Conector de seta reta 69"/>
          <p:cNvCxnSpPr>
            <a:stCxn id="270" idx="5"/>
          </p:cNvCxnSpPr>
          <p:nvPr/>
        </p:nvCxnSpPr>
        <p:spPr>
          <a:xfrm>
            <a:off x="8221680" y="3336480"/>
            <a:ext cx="2099520" cy="396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7" name="Seta para baixo 1"/>
          <p:cNvSpPr/>
          <p:nvPr/>
        </p:nvSpPr>
        <p:spPr>
          <a:xfrm>
            <a:off x="2495520" y="2492280"/>
            <a:ext cx="287280" cy="289080"/>
          </a:xfrm>
          <a:prstGeom prst="downArrow">
            <a:avLst>
              <a:gd name="adj1" fmla="val 50000"/>
              <a:gd name="adj2" fmla="val 50313"/>
            </a:avLst>
          </a:prstGeom>
          <a:solidFill>
            <a:srgbClr val="4a66ac"/>
          </a:solidFill>
          <a:ln w="25560">
            <a:solidFill>
              <a:srgbClr val="34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1055520" y="907920"/>
            <a:ext cx="100807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Proteção previdenciária da população ocupada com idade entre 16 e 59 anos, por UF, Brasil – 2017 (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tângulo 4"/>
          <p:cNvSpPr/>
          <p:nvPr/>
        </p:nvSpPr>
        <p:spPr>
          <a:xfrm>
            <a:off x="2711520" y="6165720"/>
            <a:ext cx="85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Fonte: PNAD Contínua/IBGE – 2017 /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Gráfico 5" descr=""/>
          <p:cNvPicPr/>
          <p:nvPr/>
        </p:nvPicPr>
        <p:blipFill>
          <a:blip r:embed="rId1"/>
          <a:stretch/>
        </p:blipFill>
        <p:spPr>
          <a:xfrm>
            <a:off x="768240" y="1579680"/>
            <a:ext cx="1072836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9"/>
          <p:cNvSpPr/>
          <p:nvPr/>
        </p:nvSpPr>
        <p:spPr>
          <a:xfrm>
            <a:off x="479520" y="6308640"/>
            <a:ext cx="1130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Fonte: PNADc/IBGE – 2017.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1055520" y="692280"/>
            <a:ext cx="1008072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teção previdenciária da população ocupada com idade entre 16 e 59 anos, por idade e sexo, Brasil – 2017 (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Gráfico 6" descr=""/>
          <p:cNvPicPr/>
          <p:nvPr/>
        </p:nvPicPr>
        <p:blipFill>
          <a:blip r:embed="rId1"/>
          <a:stretch/>
        </p:blipFill>
        <p:spPr>
          <a:xfrm>
            <a:off x="1274760" y="2060640"/>
            <a:ext cx="98632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1055520" y="2421000"/>
            <a:ext cx="1008072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1.2 Perfil da população ocupada com idade entre 16 e 59 anos, Brasil - 20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5"/>
          <p:cNvSpPr/>
          <p:nvPr/>
        </p:nvSpPr>
        <p:spPr>
          <a:xfrm>
            <a:off x="1055520" y="692280"/>
            <a:ext cx="10080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axa de proteção de pessoas ocupadas com idade entre 16 e 59 anos por grupo de atividade, Brasil -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4008600" y="6237360"/>
            <a:ext cx="754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Fonte: PNAD Contínua/IBGE – 2017. /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Gráfico 5" descr=""/>
          <p:cNvPicPr/>
          <p:nvPr/>
        </p:nvPicPr>
        <p:blipFill>
          <a:blip r:embed="rId1"/>
          <a:stretch/>
        </p:blipFill>
        <p:spPr>
          <a:xfrm>
            <a:off x="981000" y="2060640"/>
            <a:ext cx="1058868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90756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"/>
                <a:ea typeface="Arial"/>
              </a:rPr>
              <a:t>Percentual de proteção de pessoas ocupadas por escolaridade, Brasil - 201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Espaço Reservado para Conteúdo 4" descr=""/>
          <p:cNvPicPr/>
          <p:nvPr/>
        </p:nvPicPr>
        <p:blipFill>
          <a:blip r:embed="rId1"/>
          <a:stretch/>
        </p:blipFill>
        <p:spPr>
          <a:xfrm>
            <a:off x="609480" y="2114640"/>
            <a:ext cx="10972800" cy="442584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9"/>
          <p:cNvSpPr/>
          <p:nvPr/>
        </p:nvSpPr>
        <p:spPr>
          <a:xfrm>
            <a:off x="731880" y="6308640"/>
            <a:ext cx="1072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Fonte: PNAD Contínua/IBGE – 2017 /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1055520" y="2349360"/>
            <a:ext cx="1008072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  <a:ea typeface="Arabic Typesetting"/>
              </a:rPr>
              <a:t>Perfil da população brasileira ocupada, sem proteção previdenciária e com capacidade contribu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Silvana do Socorro Machado Rodrigues - MPS</cp:lastModifiedBy>
  <cp:lastPrinted>2017-08-23T21:50:06Z</cp:lastPrinted>
  <dcterms:modified xsi:type="dcterms:W3CDTF">2018-12-05T19:37:39Z</dcterms:modified>
  <cp:revision>697</cp:revision>
  <dc:subject/>
  <dc:title>Demografia</dc:title>
</cp:coreProperties>
</file>